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2E5D-2D1F-4B65-AAD8-145A27582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C3E7-7A49-41EB-A560-BA4FC0AA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945E-B981-47BF-A538-31CF8B32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DB33-9C54-48AC-9E09-292C5108E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780B-AD28-446B-BA42-B0A684B49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E67F-E667-46C5-B02D-FC042890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9956-9690-4322-859A-0D02E13B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EDB7-C6B7-49F1-91F3-D571067A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9FD4-3A13-481A-A4E7-CFE21117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F258-86B5-41E2-8784-57F41523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9565-D8E6-417A-AD3F-3A14C7A2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8B37-8F94-4849-A7E1-CAB03E6B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5891-73A6-461A-8F6A-6B4A2E44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C5C0-08C9-4082-AF4E-EA46E089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F5FB-D60A-42D1-86DF-7A052579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7554-F2A9-4FCB-B2DC-AD84D1FB9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70F9-8304-4BA5-AAD3-E9DEB871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91CD3-86DF-4D53-83E7-25301277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9C9C0-5083-4B67-ADBB-3B976C6B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A7E94-5440-41A9-9258-2F4F0D7B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A824C-71AA-43DA-9F21-157C3804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77E5D-E256-485A-B46C-BA76FCF5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5F33-DAC4-41B4-843C-E4EA0D40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F8691-A0EF-432B-B51C-6B760121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27D3C-ECA6-4B78-B9BA-5E91DCDE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94798-0AA4-4232-84B2-B3AB0EE9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6B721-8B72-430A-8D96-F76217FB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42B70-97E2-4C07-9DBC-F962D0B6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D8F02-DE0C-42CF-8D6A-61DB45CF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7E22F-02C3-4790-B0F8-F3625C2E2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0637C-398F-4A03-B5F4-B0F145237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E0E97-0E60-4EB9-B8F7-0F4691BA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1F030-8687-4122-B37A-35794009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E566-3FF5-416A-97AC-0B5C29E1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C70F8-87C3-42F1-8287-D382C9D6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56114-FF7B-44FA-91CC-5D2CEAC5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83940-BF6A-41D7-901C-DFCD6E63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F98FD-7391-41FA-BE16-180121F3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E2EA7-63B5-4D78-81DA-DE7B3792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500E5-2D79-4335-B39C-BD9E13B1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A8CFA-70EA-4B76-A526-837E1751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2B5E5-987F-41C5-9EED-AAAC739C9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A6B83-DB55-42FE-8015-BDE57F70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62CB-50EA-41D5-8763-2C9C1160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9386-FAD5-450E-A62E-B01328D1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A93B-D279-4FC4-B438-D102138B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E34F-066E-41AB-AE7C-F0941D84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0CEA-E9BD-43C8-B122-674EAAA3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98DC-10F2-4BBA-94A0-5E45E7BD9B3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CFE6-CB54-4EB8-BCD1-06202FD3F79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422D-7115-4D6D-B659-CA9031BA11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E252-6D2A-4785-B30A-AAC7F85FFB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6.12.2016 № № 88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7 год и плановый период 2018-2019 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752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4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3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2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2,8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35,65 млн.руб. (местный бюджет – 126,93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8,72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0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– 8,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9,0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6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</a:t>
            </a:r>
            <a:br>
              <a:rPr sz="1600"/>
            </a:b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ДЕЯТЕЛЬНОСТИ В 2017 ГОДУ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(млн.руб.)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5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351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6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7531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9,33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,32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30000" y="270000"/>
            <a:ext cx="81025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8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277920"/>
            <a:ext cx="77310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2,8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01-26T07:57:55Z</dcterms:modified>
  <cp:revision>114</cp:revision>
  <dc:subject/>
  <dc:title>Структура собственных доходов на 2016 год бюджета Дальнереченского городского округа</dc:title>
</cp:coreProperties>
</file>